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0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B3AC7-A5CA-4D56-8BF2-468183B07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A2238-FC5E-4ADD-9D17-C3263B04D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7E9FF-923A-4C0E-80D8-6B4D1C6FB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5E0F3-289C-46CA-B365-F2DBBCDF1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DE5A2-337F-439A-A105-3DAAB39BA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59C09-6BDB-45F1-98EA-1E665D1B8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C31B5-80EE-43ED-8C24-0270CCD88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0C108-7B3D-4C63-88B5-B4BE5D46F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BC092-352E-4D12-B886-4652C7966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ADCE9-B443-4648-9880-1B6F2E42F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BE9C0-A4C4-4EFD-B609-2F5FB45F2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D7FAB-0031-4174-9422-0FA6733F4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FF351-C8CC-42EB-AFCA-5FEA68D04A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hyperlink" Target="http://images.google.ca/imgres?imgurl=http://taholtorf.files.wordpress.com/2009/03/alexander-ovechkin.jpg&amp;imgrefurl=http://taholtorf.wordpress.com/2009/03/&amp;usg=__S5DYwe60QTltMKx_N3OHSEEQ7MM=&amp;h=800&amp;w=625&amp;sz=85&amp;hl=en&amp;start=6&amp;um=1&amp;tbnid=4Itf2cbDdOAMcM:&amp;tbnh=143&amp;tbnw=112&amp;prev=/images%3Fq%3Dalexander%2Bovechkin%26gbv%3D2%26hl%3Den%26safe%3Dactive%26sa%3DN%26um%3D1" TargetMode="External"/><Relationship Id="rId10" Type="http://schemas.openxmlformats.org/officeDocument/2006/relationships/image" Target="../media/image9.jpeg"/><Relationship Id="rId11" Type="http://schemas.openxmlformats.org/officeDocument/2006/relationships/image" Target="../media/image10.jpeg"/><Relationship Id="rId1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14005" t="0" r="14005" b="2003"/>
          <a:stretch/>
        </p:blipFill>
        <p:spPr>
          <a:xfrm>
            <a:off x="0" y="0"/>
            <a:ext cx="1287360" cy="175248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295280" y="0"/>
            <a:ext cx="1838520" cy="14810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124080" y="0"/>
            <a:ext cx="1341720" cy="16765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9051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m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47920" y="1600200"/>
            <a:ext cx="14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ir c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352680" y="175248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rve c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4495680" y="0"/>
            <a:ext cx="1676520" cy="16765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4952880" y="175248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5"/>
          <a:stretch/>
        </p:blipFill>
        <p:spPr>
          <a:xfrm>
            <a:off x="6172200" y="0"/>
            <a:ext cx="2819520" cy="16527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6705720" y="167652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cle tiss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426708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cular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6"/>
          <a:stretch/>
        </p:blipFill>
        <p:spPr>
          <a:xfrm>
            <a:off x="0" y="2286000"/>
            <a:ext cx="1619280" cy="21049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7"/>
          <a:stretch/>
        </p:blipFill>
        <p:spPr>
          <a:xfrm>
            <a:off x="1600200" y="2362320"/>
            <a:ext cx="1384200" cy="19047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600200" y="434340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rvous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8"/>
          <a:stretch/>
        </p:blipFill>
        <p:spPr>
          <a:xfrm>
            <a:off x="2971800" y="2438280"/>
            <a:ext cx="2362320" cy="17161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505320" y="41148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kin tiss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5486400" y="2362320"/>
            <a:ext cx="1432080" cy="18288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11"/>
          <a:srcRect l="0" t="0" r="14370" b="0"/>
          <a:stretch/>
        </p:blipFill>
        <p:spPr>
          <a:xfrm>
            <a:off x="2743200" y="4572000"/>
            <a:ext cx="2724120" cy="18558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3657600" y="649116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Anim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791320" y="4267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Hum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6T14:42:42Z</dcterms:created>
  <dc:creator>rrvsd</dc:creator>
  <dc:description/>
  <dc:language>en-US</dc:language>
  <cp:lastModifiedBy>ladueck</cp:lastModifiedBy>
  <dcterms:modified xsi:type="dcterms:W3CDTF">2009-10-07T20:10:25Z</dcterms:modified>
  <cp:revision>3</cp:revision>
  <dc:subject/>
  <dc:title>Slide 1</dc:title>
</cp:coreProperties>
</file>