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EEB-E2AF-454E-9C02-1E30BAF5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6AB-C874-4DD5-BB0A-A349ADB1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5EF-7BA2-4793-9961-77251472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EE4-A569-468C-B70E-1F63BF11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E10-53AB-453A-9714-AF43FC53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4AD-C013-4033-829D-9C97AD8A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400-78CD-4613-A8CC-FDC07A9A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BE59-02E6-4FC4-8ABE-3E82BD20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02F-327E-4306-881B-BFA71B48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8F6-4D5C-4A18-8229-37108883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B80C-190E-41E2-B9C4-3B7A3782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8D0-79EA-492A-A12B-05951829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C937-15AB-4B73-B0A2-B0714D62F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http://images.google.ca/imgres?imgurl=http://taholtorf.files.wordpress.com/2009/03/alexander-ovechkin.jpg&amp;imgrefurl=http://taholtorf.wordpress.com/2009/03/&amp;usg=__S5DYwe60QTltMKx_N3OHSEEQ7MM=&amp;h=800&amp;w=625&amp;sz=85&amp;hl=en&amp;start=6&amp;um=1&amp;tbnid=4Itf2cbDdOAMcM:&amp;tbnh=143&amp;tbnw=112&amp;prev=/images%3Fq%3Dalexander%2Bovechkin%26gbv%3D2%26hl%3Den%26safe%3Dactive%26sa%3DN%26um%3D1" TargetMode="External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005" t="0" r="14005" b="2003"/>
          <a:stretch/>
        </p:blipFill>
        <p:spPr>
          <a:xfrm>
            <a:off x="0" y="0"/>
            <a:ext cx="1287360" cy="1752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1838520" cy="1481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24080" y="0"/>
            <a:ext cx="1341720" cy="1676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905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1600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1752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495680" y="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52880" y="1752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172200" y="0"/>
            <a:ext cx="2819520" cy="1652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05720" y="1676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cle 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2286000"/>
            <a:ext cx="1619280" cy="210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1600200" y="2362320"/>
            <a:ext cx="138420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0200" y="4343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2971800" y="243828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05320" y="41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n 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486400" y="2362320"/>
            <a:ext cx="143208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1"/>
          <a:srcRect l="0" t="0" r="14370" b="0"/>
          <a:stretch/>
        </p:blipFill>
        <p:spPr>
          <a:xfrm>
            <a:off x="2743200" y="4572000"/>
            <a:ext cx="2724120" cy="1855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57600" y="6491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4267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42:42Z</dcterms:created>
  <dc:creator>rrvsd</dc:creator>
  <dc:description/>
  <dc:language>en-US</dc:language>
  <cp:lastModifiedBy>ladueck</cp:lastModifiedBy>
  <dcterms:modified xsi:type="dcterms:W3CDTF">2009-10-07T20:10:25Z</dcterms:modified>
  <cp:revision>3</cp:revision>
  <dc:subject/>
  <dc:title>Slide 1</dc:title>
</cp:coreProperties>
</file>