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F7B-E7E0-41E2-945A-0FE49CF8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344-5819-40C4-A802-04A30C24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421-FD76-487B-A2F8-C2331CB9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398-2F93-439C-B06C-0FD7762E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565-DC95-452E-8E3F-26902E0E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B39-06F9-41F3-85A2-DA4FFECE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F7F-BF22-4FAE-B0F5-CC18C377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ACC-BFC9-4249-A0D1-25074873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674-8311-498F-847F-D2A8B26A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9C0-DF8F-4A64-B201-B88BD87F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488-A9A0-45C1-A758-31501CEC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6B1-EF26-4436-9620-2FB4E8FF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15A0-DAC2-4F91-9D8C-F30C532EB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images.google.ca/imgres?imgurl=http://taholtorf.files.wordpress.com/2009/03/alexander-ovechkin.jpg&amp;imgrefurl=http://taholtorf.wordpress.com/2009/03/&amp;usg=__S5DYwe60QTltMKx_N3OHSEEQ7MM=&amp;h=800&amp;w=625&amp;sz=85&amp;hl=en&amp;start=6&amp;um=1&amp;tbnid=4Itf2cbDdOAMcM:&amp;tbnh=143&amp;tbnw=112&amp;prev=/images%3Fq%3Dalexander%2Bovechkin%26gbv%3D2%26hl%3Den%26safe%3Dactive%26sa%3DN%26um%3D1" TargetMode="External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005" t="0" r="14005" b="2003"/>
          <a:stretch/>
        </p:blipFill>
        <p:spPr>
          <a:xfrm>
            <a:off x="0" y="0"/>
            <a:ext cx="1287360" cy="1752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1838520" cy="1481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24080" y="0"/>
            <a:ext cx="1341720" cy="167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905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1600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1752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49568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52880" y="1752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172200" y="0"/>
            <a:ext cx="2819520" cy="1652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1676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le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2286000"/>
            <a:ext cx="1619280" cy="21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1600200" y="2362320"/>
            <a:ext cx="138420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4343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2971800" y="243828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0532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86400" y="2362320"/>
            <a:ext cx="143208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rcRect l="0" t="0" r="14370" b="0"/>
          <a:stretch/>
        </p:blipFill>
        <p:spPr>
          <a:xfrm>
            <a:off x="2743200" y="4572000"/>
            <a:ext cx="2724120" cy="185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760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4267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42:42Z</dcterms:created>
  <dc:creator>rrvsd</dc:creator>
  <dc:description/>
  <dc:language>en-US</dc:language>
  <cp:lastModifiedBy>ladueck</cp:lastModifiedBy>
  <dcterms:modified xsi:type="dcterms:W3CDTF">2009-10-07T20:10:25Z</dcterms:modified>
  <cp:revision>3</cp:revision>
  <dc:subject/>
  <dc:title>Slide 1</dc:title>
</cp:coreProperties>
</file>