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37F2-9179-48E1-98D5-611E3947A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73B16-02ED-41F0-AD73-5607DD38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BA04-9580-4EC5-9999-C7E89EB68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6AF8-44D4-4C5D-AAF3-F788F3AB0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8465C-8208-4100-9D2D-5E1A8571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F480-A434-442D-BF34-DCF38EE1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2DF-000F-4855-AB5F-5557B447F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CBB8-4F8D-4A27-ABFB-A38E336E2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9018-7673-4142-ADC6-E3FE8B546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A2CA-BD38-451C-A33A-61A6740A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EDE-2017-4C5A-A813-95BA5992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3A6C-2FAE-4291-982D-B82A284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1DE71-6CEA-4E57-89AD-3118A9CF55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hyperlink" Target="http://images.google.ca/imgres?imgurl=http://taholtorf.files.wordpress.com/2009/03/alexander-ovechkin.jpg&amp;imgrefurl=http://taholtorf.wordpress.com/2009/03/&amp;usg=__S5DYwe60QTltMKx_N3OHSEEQ7MM=&amp;h=800&amp;w=625&amp;sz=85&amp;hl=en&amp;start=6&amp;um=1&amp;tbnid=4Itf2cbDdOAMcM:&amp;tbnh=143&amp;tbnw=112&amp;prev=/images%3Fq%3Dalexander%2Bovechkin%26gbv%3D2%26hl%3Den%26safe%3Dactive%26sa%3DN%26um%3D1" TargetMode="External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4005" t="0" r="14005" b="2003"/>
          <a:stretch/>
        </p:blipFill>
        <p:spPr>
          <a:xfrm>
            <a:off x="0" y="0"/>
            <a:ext cx="1287360" cy="17524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95280" y="0"/>
            <a:ext cx="1838520" cy="14810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124080" y="0"/>
            <a:ext cx="1341720" cy="1676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905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om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160020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175248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e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4495680" y="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952880" y="175248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6172200" y="0"/>
            <a:ext cx="2819520" cy="1652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6705720" y="1676520"/>
            <a:ext cx="167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le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26708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scular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0" y="2286000"/>
            <a:ext cx="1619280" cy="2104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tretch/>
        </p:blipFill>
        <p:spPr>
          <a:xfrm>
            <a:off x="1600200" y="2362320"/>
            <a:ext cx="1384200" cy="19047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1600200" y="4343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rvous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8"/>
          <a:stretch/>
        </p:blipFill>
        <p:spPr>
          <a:xfrm>
            <a:off x="2971800" y="2438280"/>
            <a:ext cx="2362320" cy="1716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505320" y="41148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kin tiss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9"/>
          </p:cNvPr>
          <p:cNvPicPr/>
          <p:nvPr/>
        </p:nvPicPr>
        <p:blipFill>
          <a:blip r:embed="rId10"/>
          <a:stretch/>
        </p:blipFill>
        <p:spPr>
          <a:xfrm>
            <a:off x="5486400" y="2362320"/>
            <a:ext cx="1432080" cy="1828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1"/>
          <a:srcRect l="0" t="0" r="14370" b="0"/>
          <a:stretch/>
        </p:blipFill>
        <p:spPr>
          <a:xfrm>
            <a:off x="2743200" y="4572000"/>
            <a:ext cx="2724120" cy="1855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657600" y="649116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791320" y="4267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Hum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4:42:42Z</dcterms:created>
  <dc:creator>rrvsd</dc:creator>
  <dc:description/>
  <dc:language>en-US</dc:language>
  <cp:lastModifiedBy>ladueck</cp:lastModifiedBy>
  <dcterms:modified xsi:type="dcterms:W3CDTF">2009-10-07T20:10:25Z</dcterms:modified>
  <cp:revision>3</cp:revision>
  <dc:subject/>
  <dc:title>Slide 1</dc:title>
</cp:coreProperties>
</file>